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65E-2D37-4C30-80E7-97929605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0DD-8ADB-4A0F-83AD-271A387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970-DD8D-4131-B525-AEB54256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6F2-6ECD-4C78-BEAE-A700BDD0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1437-B289-4A87-AB5A-B6668358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B3519-ECB2-4E59-B35B-890C2FF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F6A3-B328-4C68-9782-CF4F3EB8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66DF1-9C6B-4DD8-92D3-91D9802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9D84D-E9E4-42C9-9671-3BA2FFBC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13EF-0668-4BCF-B0E1-1BE94C1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9CD4-DC9A-4987-A49B-A4A17144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E36-B0DD-4FEC-AD91-7943C091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E6E88-DB28-4158-900F-4917893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E2355-C28B-41D6-A5EB-1614F2D8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DB01-AD0D-42BC-9958-644ADE15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5B1BD-E3D2-4539-9724-A6BDA357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A8D26-C892-4AAF-98C9-6CB131F0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059A-D767-4DAF-AE25-0FEF11B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652-80E3-4DCA-BC59-9704365B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F8C-995A-4342-BAB2-4DEE6F6F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0AD-49CA-492A-99E1-55D746CD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AAB-67D0-49FE-A501-4AC1D730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4EB-DD1B-4C3A-846C-7D11E67F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875-71B9-4149-ACF2-541D06EF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A3A-B5B5-40F9-8A00-152D0561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85d1e3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e6169"/>
                </a:gs>
                <a:gs pos="100000">
                  <a:srgbClr val="85d1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85d1e3"/>
              </a:gs>
              <a:gs pos="100000">
                <a:srgbClr val="00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5599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3e8b8b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C05-7481-4E64-AB0A-E33C4E8CC3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สรุปผลการประชุมเชิงปฏิบัติการ เพื่อจัดทำ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(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ร่าง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) 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กรอบคำรับรองการปฏิบัติราชการ </a:t>
            </a:r>
            <a:br>
              <a:rPr sz="2800"/>
            </a:b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กรมประชาสัมพันธ์ ประจำปี พ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.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ศ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. 2555 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เพื่อเสนอผู้บริหารกรมประชาสัมพันธ์</a:t>
            </a:r>
            <a:br>
              <a:rPr sz="2800"/>
            </a:b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ระหว่างวันที่   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13 - 14 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กรกฎาคม พ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.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ศ</a:t>
            </a: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. 2554</a:t>
            </a:r>
            <a:br>
              <a:rPr sz="2800"/>
            </a:br>
            <a:r>
              <a:rPr b="1" lang="th-TH" sz="2800" spc="-1" strike="noStrike">
                <a:solidFill>
                  <a:srgbClr val="0000ff"/>
                </a:solidFill>
                <a:latin typeface="TH SarabunIT๙"/>
                <a:cs typeface="TH SarabunIT๙"/>
              </a:rPr>
              <a:t>ณ  ห้องนพรัตน์ โรงแรมโรสกาเด้น อำเภอสามพราน จังหวัดนครปฐม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th-TH" sz="2800" spc="-1" strike="noStrike">
                <a:solidFill>
                  <a:srgbClr val="0000ff"/>
                </a:solidFill>
                <a:latin typeface="TH SarabunIT๙"/>
                <a:ea typeface="TH SarabunIT๙"/>
              </a:rPr>
              <a:t>                                                                               กลุ่มพัฒนาระบบบริหาร</a:t>
            </a:r>
            <a:br>
              <a:rPr sz="24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๓</a:t>
            </a:r>
            <a:r>
              <a:rPr b="0" lang="th-TH" sz="20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ขยายบทบาททางวิชาการประชาสัมพันธ์และสื่อสารมวลชน ให้แก่หน่วยงานภาครัฐ องค์กรภาคเอกชน 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ภาคประชาชน และสื่อมวลชน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หน่วยงานภาครัฐ องค์กรภาคเอกชน ภาคประชาชน และสื่อมวลชน สามารถดำเนินง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ประชาสัมพันธ์และสื่อสารมวลชนได้สำเร็จตามเป้าหมายที่กำหนดโดยใช้ข้อมูลทางวิชาการด้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การประชาสัมพันธ์ 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๓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๑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สนับสนุนทางวิชาการประชาสัมพันธ์และสื่อสารมวลชนให้แก่หน่วยงานภาครัฐ องค์กรภาคเอกชน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ภาคประชาชน และสื่อมวลชน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716360" y="2205000"/>
          <a:ext cx="4037040" cy="435312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8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องค์ความรู้ของทีมงา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กระบวนการจัดทำแผนของหน่วยงานให้สอดคล้องกับช่วงเวลาของหน่วยงานภายนอ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ฐานข้อมูล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กระบวนการจัดทำแผนบูรณาการให้ครอบคลุมทุกหน่วยงานที่เกี่ยวข้อง ทั้งหน่วยวางแผนและหน่วยปฏิบัติด้านสื่อ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5280" y="220500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63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ำนวนของแผนประชาสัมพันธ์เชิ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บูรณาการที่ร่วมจัดทำกับหน่วยงานภายนอกและนำไปปฏิบัติ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ผ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ป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2" name="Line 17"/>
          <p:cNvSpPr/>
          <p:nvPr/>
        </p:nvSpPr>
        <p:spPr>
          <a:xfrm>
            <a:off x="395280" y="263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๓</a:t>
            </a:r>
            <a:r>
              <a:rPr b="0" lang="th-TH" sz="20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ขยายบทบาททางวิชาการประชาสัมพันธ์และสื่อสารมวลชน ให้แก่หน่วยงานภาครัฐ องค์กรภาคเอกชน 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ภาคประชาชน และสื่อมวลชน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หน่วยงานภาครัฐ องค์กรภาคเอกชน ภาคประชาชน และสื่อมวลชน สามารถดำเนินง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ประชาสัมพันธ์และสื่อสารมวลชนได้สำเร็จตามเป้าหมายที่กำหนดโดยใช้ข้อมูลทางวิชาการด้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การประชาสัมพันธ์ 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๓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๑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สนับสนุนทางวิชาการประชาสัมพันธ์และสื่อสารมวลชนให้แก่หน่วยงานภาครัฐ องค์กรภาคเอกชน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ภาคประชาชน และสื่อมวลชน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16360" y="2205000"/>
          <a:ext cx="4037040" cy="435312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 </a:t>
                      </a: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จัดทำฐานข้อมูลเรื่องการเข้าร่วมเป็นกรรมการ และการจัดทำแผนประชาสัมพันธ์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ิจกรรมประชาสัมพันธ์ ที่เกิดจากการเข้าร่วมเป็นกรรมกา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ทุกหน่วยปฏิบัติ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5280" y="220500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๙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ำนวนคณะกรรมการที่ กป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เข้าร่วมและมีบทบาทในการจัดทำแผนประชาสัมพันธ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7" name="Line 17"/>
          <p:cNvSpPr/>
          <p:nvPr/>
        </p:nvSpPr>
        <p:spPr>
          <a:xfrm>
            <a:off x="395280" y="263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๓</a:t>
            </a:r>
            <a:r>
              <a:rPr b="0" lang="th-TH" sz="20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ขยายบทบาททางวิชาการประชาสัมพันธ์และสื่อสารมวลชน ให้แก่หน่วยงานภาครัฐ องค์กรภาคเอกชน 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ภาคประชาชน และสื่อมวลชน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หน่วยงานภาครัฐ องค์กรภาคเอกชน ภาคประชาชน และสื่อมวลชน สามารถดำเนินง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ประชาสัมพันธ์และสื่อสารมวลชนได้สำเร็จตามเป้าหมายที่กำหนดโดยใช้ข้อมูลทางวิชาการด้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การประชาสัมพันธ์ 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๓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๑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สนับสนุนทางวิชาการประชาสัมพันธ์และสื่อสารมวลชนให้แก่หน่วยงานภาครัฐ องค์กรภาคเอกชน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ภาคประชาชน และสื่อมวลชน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716360" y="2205000"/>
          <a:ext cx="4037040" cy="454356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0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ศึกษาวิเคราะห์ข้อมูลบริการเดิม เพื่อพัฒนาคุณภาพและมาตรฐานบริการให้ตอบสนองความต้องการของกลุ่มเป้าหมา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95280" y="2205000"/>
          <a:ext cx="4037040" cy="473076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62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๐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ำนวนบริการทางวิชาการที่เพิ่มขึ้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บริการ หมายถึง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...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ารให้คำปรึกษาด้านวิชาการประชาสัมพันธ์และสื่อสารมวลชน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หลักสูตรการฝึกอบรม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องค์ความรู้ ที่เผยแพร่ผ่านเว็บไซต์ 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วัดจากจำนวน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unique IP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ารจัดทำแผ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หลักสูตร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n lin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72" name="Line 17"/>
          <p:cNvSpPr/>
          <p:nvPr/>
        </p:nvSpPr>
        <p:spPr>
          <a:xfrm>
            <a:off x="395280" y="263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๓</a:t>
            </a:r>
            <a:r>
              <a:rPr b="0" lang="th-TH" sz="22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ขยายบทบาททางวิชาการประชาสัมพันธ์และสื่อสารมวลชน ให้แก่หน่วยงานภาครัฐ 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องค์กรภาคเอกชน ภาคประชาชน และสื่อมวลชน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หน่วยงานภาครัฐ องค์กรภาคเอกชน ภาคประชาชน และสื่อมวลชน สามารถดำเนินงาน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ประชาสัมพันธ์ และสื่อสารมวลชนได้สำเร็จตามเป้าหมายที่กำหนดโดยใช้ข้อมูล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 ทางวิชาการด้านการประชาสัมพันธ์ 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๓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๒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ส่งเสริมมาตรฐานวิชาชีพการประชาสัมพันธ์และการสื่อสารมวลชน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716360" y="2133720"/>
          <a:ext cx="4037040" cy="449712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3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จัดทำข้อกำหนด เรื่องการนำความรู้ไปประยุกต์ใช้และขยายผลในการปฏิบัติงา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ติดตามผลการปฏิบัติงานจากผู้บังคับบัญชา และผู้ร่วมงา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หน่วยงานที่จัดอบรมแก่บุคคลภายนอ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68360" y="2133720"/>
          <a:ext cx="4037040" cy="449712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้อยละของผู้ผ่านการอบรมที่นำความรู้ไปประยุกต์ใช้ในการปฏิบัติงานภายในระยะเวลา ๑ ปี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77" name="Line 17"/>
          <p:cNvSpPr/>
          <p:nvPr/>
        </p:nvSpPr>
        <p:spPr>
          <a:xfrm>
            <a:off x="468360" y="256536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(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ร่าง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)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กรอบตัวชี้วัดคำรับรอง กปส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.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ปีงบประมาณ ๒๕๕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ตัวชี้วัดตามยุทธศาตร์ที่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2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และ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3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จำนวน รวม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ea typeface="TH SarabunIT๙"/>
              </a:rPr>
              <a:t>11 </a:t>
            </a:r>
            <a:r>
              <a:rPr b="1" lang="th-TH" sz="1800" spc="-1" strike="noStrike" u="sng">
                <a:solidFill>
                  <a:srgbClr val="ffffff"/>
                </a:solidFill>
                <a:uFillTx/>
                <a:latin typeface="TH SarabunIT๙"/>
                <a:cs typeface="TH SarabunIT๙"/>
              </a:rPr>
              <a:t>ตัวชี้วัด ดังนี้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1.       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ค่าเฉลี่ยถ่วงน้ำหนักของระดับความเชื่อมั่นของผู้รับบริการกลุ่มเป้าหมายทั้งในและต่างประเทศที่มีต่อข้อมูลข่าวสา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          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ของกรมประชาสัมพันธ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๒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้อยละของผู้รับบริการของกรมประชาสัมพันธ์ที่นำข้อมูลข่าวสารไปใช้ประโยชน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๓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้อยละของกลุ่มเป้าหมายชาวต่างประเทศมีการรับรู้ในเนื้อหายุทธศาสตร์ชาติและนโยบายสำคัญของรัฐบาล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(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กำหนดประเด็นตามกลุ่มเป้าหมาย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๔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ำนวนโครงการ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/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กิจกรรมความร่วมมือระหว่างประเทศที่ดำเนินการได้ครบถ้วนต่อเนื่องตามกรอบความร่วมมื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๕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ะดับความพึงพอใจของประชาชนในพื้นที่ภาวะวิกฤตต่อการเผยแพร่ข้อมูลข่าวสารที่นำไปใช้ประโยชน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    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(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วมภาคใต้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๖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้อยละของจำนวนผู้รับบริการจากการพัฒนาช่องทางการให้บริการของกรมประชาสัมพันธ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๗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ำนวนหน่วยงานที่มาขอรับคำปรึกษา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/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ัด  หลักสูตร ด้านการประชาสัมพันธ์และสื่อสารมวลช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๘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ำนวนของแผนประชาสัมพันธ์เชิงบูรณาการที่ร่วมจัดทำกับหน่วยงานภายนอกและนำไปปฏิบัต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๙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ำนวนคณะกรรมการที่ กปส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เข้าร่วมและมีบทบาทในการจัดทำแผนประชาสัมพันธ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๑๐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จำนวนบริการทางวิชาการที่เพิ่มขึ้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๑๑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. 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	</a:t>
            </a:r>
            <a:r>
              <a:rPr b="1" lang="th-TH" sz="1800" spc="-1" strike="noStrike">
                <a:solidFill>
                  <a:srgbClr val="ffffff"/>
                </a:solidFill>
                <a:latin typeface="TH SarabunIT๙"/>
                <a:cs typeface="TH SarabunIT๙"/>
              </a:rPr>
              <a:t>ร้อยละของผู้ผ่านการอบรมที่นำความรู้ไปประยุกต์ใช้ในการปฏิบัติงานภายในระยะเวลา ๑ ปี</a:t>
            </a:r>
            <a:r>
              <a:rPr b="1" lang="en-US" sz="1800" spc="-1" strike="noStrike">
                <a:solidFill>
                  <a:srgbClr val="ffffff"/>
                </a:solidFill>
                <a:latin typeface="TH SarabunIT๙"/>
                <a:ea typeface="TH SarabunIT๙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ffff"/>
                </a:solidFill>
                <a:latin typeface="TH SarabunIT๙"/>
                <a:ea typeface="TH SarabunIT๙"/>
              </a:rPr>
              <a:t>******************************************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5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5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5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</a:t>
            </a:r>
            <a:r>
              <a:rPr b="1" lang="th-TH" sz="25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500" spc="-1" strike="noStrike">
                <a:solidFill>
                  <a:srgbClr val="ffff99"/>
                </a:solidFill>
                <a:latin typeface="Arial"/>
              </a:rPr>
              <a:t>       ให้เกิดภาพลักษณ์ที่ดีของประเทศ</a:t>
            </a:r>
            <a:r>
              <a:rPr b="0" lang="th-TH" sz="25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500"/>
            </a:br>
            <a:r>
              <a:rPr b="1" lang="th-TH" sz="25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5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500" spc="-1" strike="noStrike">
                <a:solidFill>
                  <a:srgbClr val="ffff99"/>
                </a:solidFill>
                <a:latin typeface="Arial"/>
              </a:rPr>
              <a:t>ความเชื่อมั่นของกลุ่มเป้าหมายทั้งในและต่างประเทศต่อข้อมูลข่าวสารของกรมประชาสัมพันธ์ ซึ่งมีผลต่อการพัฒนาคุณภาพชีวิตของประชาชน ก่อให้เกิดทัศนคติที่ดีและเสริมสร้างภาพลักษณ์ของประเทศไทย</a:t>
            </a:r>
            <a:endParaRPr b="0" lang="en-US" sz="25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71636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58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กำหนดกลุ่มเป้าหมายทั้งในและต่างประเทศที่ชัดเจ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ติดตามข้อมูลข่าวสารนโยบายการดำเนินงานของรัฐเพื่อกำหนดประเด็นการสื่อสารกับกลุ่มเป้าหมายอย่างต่อเนื่องสอดคล้องกับสถานการณ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ำรวจความต้องการของกลุ่มเป้าหมายเพื่อให้บริการที่สอดคล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พัฒนาระบบจัดเก็บข้อมูลและการเชื่อมโยงกับช่องทางการเผยแพร่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528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2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ค่าเฉลี่ยถ่วงน้ำหนักของระดับความเชื่อมั่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นของผู้รับบริการกลุ่มเป้าหมายทั้งในและต่างประเทศที่มีต่อข้อมูลข่าวสารของกรมประชาสัมพันธ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ป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ว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ท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ป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br>
                        <a:rPr sz="2400"/>
                      </a:b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ศสช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ผ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27" name="Line 17"/>
          <p:cNvSpPr/>
          <p:nvPr/>
        </p:nvSpPr>
        <p:spPr>
          <a:xfrm>
            <a:off x="395280" y="2492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6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1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1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1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ให้เกิด</a:t>
            </a:r>
            <a:br>
              <a:rPr sz="2100"/>
            </a:b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                ภาพลักษณ์ที่ดีของประเทศ</a:t>
            </a:r>
            <a:r>
              <a:rPr b="0" lang="th-TH" sz="21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100"/>
            </a:br>
            <a:r>
              <a:rPr b="1" lang="th-TH" sz="21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ความเชื่อมั่นในข้อมูลข่าวสารของกรมประชาสัมพันธ์ที่เผยแพร่สู่สาธารณะมีผลต่อการพัฒนา</a:t>
            </a:r>
            <a:br>
              <a:rPr sz="2100"/>
            </a:b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                 คุณภาพชีวิตของประชาชน และเกิดภาพลักษณ์ที่ดีของประเทศไทย</a:t>
            </a:r>
            <a:br>
              <a:rPr sz="2100"/>
            </a:br>
            <a:r>
              <a:rPr b="1" lang="th-TH" sz="21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๒</a:t>
            </a:r>
            <a:r>
              <a:rPr b="1" lang="th-TH" sz="21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100" spc="-1" strike="noStrike" u="sng">
                <a:solidFill>
                  <a:srgbClr val="ffff99"/>
                </a:solidFill>
                <a:uFillTx/>
                <a:latin typeface="Arial"/>
              </a:rPr>
              <a:t>๑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พัฒนาการให้บริการประชาสัมพันธ์ข้อมูลข่าวสารนโยบายและการดำเนินงานของรัฐให้</a:t>
            </a:r>
            <a:br>
              <a:rPr sz="2100"/>
            </a:b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100" spc="-1" strike="noStrike">
                <a:solidFill>
                  <a:srgbClr val="ffff99"/>
                </a:solidFill>
                <a:latin typeface="Arial"/>
              </a:rPr>
              <a:t>      สอดคล้องกับความต้องการของกลุ่มเป้าหมาย</a:t>
            </a:r>
            <a:endParaRPr b="0" lang="en-US" sz="21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16360" y="2060640"/>
          <a:ext cx="4037040" cy="482112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996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สรุปข้อมูลประเด็นนโยบายและแนวทางการดำเนินงานของรัฐ เพื่อแก้ไขปัญหา และสนองตอบความต้องการของกลุ่มเป้าหมา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คุณภาพ ข่าว รายการ แผนประชาสัมพันธ์ โครงการกิจกรรม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ป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วท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ทท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ปต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ศสช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 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ผ</a:t>
                      </a:r>
                      <a:r>
                        <a:rPr b="1" lang="th-T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2060640"/>
          <a:ext cx="4037040" cy="46148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73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๒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้อยละของผู้รับบริการของกรมประชาสัมพันธ์ที่นำข้อมูลข่าวสารไปใช้ประโยชน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ผู้รับบริการ – ประชาชน  หน่วยงานภาครัฐ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-</a:t>
                      </a:r>
                      <a:r>
                        <a:rPr b="1" lang="th-TH" sz="2400" spc="-1" strike="noStrike" u="sng">
                          <a:solidFill>
                            <a:srgbClr val="00ffff"/>
                          </a:solidFill>
                          <a:uFillTx/>
                          <a:latin typeface="Arial"/>
                        </a:rPr>
                        <a:t>นิยาม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การใช้ประโยชน์  นำมาเป็นประเด็นในการวัด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นำฐานจากตัวชี้วัดผู้ชมผู้ฟังมากำหนดค่าเป้าหมาย 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ไม่ได้นำตัวเลขมากำหนดโดยตรง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32" name="Line 17"/>
          <p:cNvSpPr/>
          <p:nvPr/>
        </p:nvSpPr>
        <p:spPr>
          <a:xfrm>
            <a:off x="395280" y="2492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2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ให้เกิด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ภาพลักษณ์ที่ดีของประเทศ</a:t>
            </a:r>
            <a:r>
              <a:rPr b="0" lang="th-TH" sz="22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ความเชื่อมั่นในข้อมูลข่าวสารของกรมประชาสัมพันธ์ที่เผยแพร่สู่สาธารณะมีผลต่อ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การพัฒนาคุณภาพชีวิตของประชาชน และเกิดภาพลักษณ์ที่ดีของประเทศไทย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๒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๒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เสริมสร้างทัศนคติที่ดีต่อประเทศไทยในสายตาของต่างประเทศ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1636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78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สรุปข้อมูลประเด็นนโยบายและแนวทางการดำเนินงานของรัฐ เพื่อแก้ไขปัญหา และสนองตอบความต้องการของกลุ่มเป้าหมา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คุณภาพ ข่าว รายการ แผนประชาสัมพันธ์ โครงการกิจกรรม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ว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ท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9528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๓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้อยละของกลุ่มเป้าหมายชาวต่างประเทศมีการรับรู้ในเนื้อหายุทธศาสตร์ชาติและนโยบายสำคัญของรัฐบาล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กำหนดประเด็นตามกลุ่มเป้าหมาย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37" name="Line 17"/>
          <p:cNvSpPr/>
          <p:nvPr/>
        </p:nvSpPr>
        <p:spPr>
          <a:xfrm>
            <a:off x="395280" y="2492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2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ให้เกิด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ภาพลักษณ์ที่ดีของประเทศ</a:t>
            </a:r>
            <a:r>
              <a:rPr b="0" lang="th-TH" sz="22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ความเชื่อมั่นในข้อมูลข่าวสารของกรมประชาสัมพันธ์ที่เผยแพร่สู่สาธารณะมีผลต่อ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การพัฒนาคุณภาพชีวิตของประชาชน และเกิดภาพลักษณ์ที่ดีของประเทศไทย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๒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๒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เสริมสร้างทัศนคติที่ดีต่อประเทศไทยในสายตาของต่างประเทศ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1636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ประชุมหน่วยงานที่เกี่ยวข้องทั้งภายในภายนอก เพื่อกำหนดกรอบทิศทางความร่วมมือ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จัดลำดับความสำคัญของกิจกรรมความร่วมมือ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ว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ท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ศสช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ช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๔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ำนวนโครงการ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กิจกรรมความร่วมมือระหว่างประเทศที่ดำเนินการได้ครบถ้วนต่อเนื่องตามกรอบความร่วมมือ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42" name="Line 17"/>
          <p:cNvSpPr/>
          <p:nvPr/>
        </p:nvSpPr>
        <p:spPr>
          <a:xfrm>
            <a:off x="395280" y="2492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8820000" y="6381720"/>
            <a:ext cx="32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2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ให้เกิด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ภาพลักษณ์ที่ดีของประเทศ</a:t>
            </a:r>
            <a:r>
              <a:rPr b="0" lang="th-TH" sz="22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ความเชื่อมั่นในข้อมูลข่าวสารของกรมประชาสัมพันธ์ที่เผยแพร่สู่สาธารณะมีผลต่อ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การพัฒนาคุณภาพชีวิตของประชาชน และเกิดภาพลักษณ์ที่ดีของประเทศไทย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๒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๓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ประชาสัมพันธ์สนับสนุนการแก้ไขปัญหาในภาวะวิกฤต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71636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8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ำหนดเนื้อหาของสารที่จะเผยแพร่ไปยังผู้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เข้าร่วมปฏิบัติงานในศูนย์อำนวยการร่วม บริหารจัดการข้อมูลข่าวสารในพื้นที่ บูรณาการความร่วมมือกับหน่วยงานที่เกี่ยวข้อง เพื่อจัดทำแผนปฏิบัติการ  ติดตามความก้าวหน้าของการดำเนินการ และความต้องการของประชาชนในพื้นที่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ำหนดช่องทางการสื่อสารที่ครอบคลุมผู้ที่ได้รับผลกระทบจากภาวะวิกฤต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95280" y="2060640"/>
          <a:ext cx="4037040" cy="45482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646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ะดับความพึงพอใจของประชาชนในพื้นที่ภาวะวิกฤตต่อการเผยแพร่ข้อมูลข่าวสารที่นำไปใช้ประโยชน์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วมภาคใต้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วัดทั้งความพึงพอใจและการใช้ประโยชน์</a:t>
                      </a: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หน่วยงานเจ้าภาพในภาวะวิกฤต เช่น กรมป้องกันและบรรเทาสาธารณภัย ก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อำนวยการรักษาความมั่นคงแห่งชาติ เป็นต้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ทุกหน่วยทั้งส่วนกลางและภูมิภาค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47" name="Line 17"/>
          <p:cNvSpPr/>
          <p:nvPr/>
        </p:nvSpPr>
        <p:spPr>
          <a:xfrm>
            <a:off x="395280" y="249228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๒</a:t>
            </a:r>
            <a:r>
              <a:rPr b="0" lang="th-TH" sz="22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2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พัฒนาการประชาสัมพันธ์ข้อมูลข่าวสารนโยบายและการดำเนินงานของรัฐให้เกิด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ภาพลักษณ์ที่ดีของประเทศ</a:t>
            </a:r>
            <a:r>
              <a:rPr b="0" lang="th-TH" sz="22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ความเชื่อมั่นในข้อมูลข่าวสารของกรมประชาสัมพันธ์ที่เผยแพร่สู่สาธารณะมีผลต่อ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            การพัฒนาคุณภาพชีวิตของประชาชน และเกิดภาพลักษณ์ที่ดีของประเทศไทย</a:t>
            </a:r>
            <a:br>
              <a:rPr sz="2200"/>
            </a:b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๒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200" spc="-1" strike="noStrike" u="sng">
                <a:solidFill>
                  <a:srgbClr val="ffff99"/>
                </a:solidFill>
                <a:uFillTx/>
                <a:latin typeface="Arial"/>
              </a:rPr>
              <a:t>๔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พัฒนาช่องทางการให้บริการของกรมประชาสัมพันธ์ให้ครอบคลุมกลุ่มเป้าหมายทั้งในและ</a:t>
            </a:r>
            <a:br>
              <a:rPr sz="2200"/>
            </a:b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200" spc="-1" strike="noStrike">
                <a:solidFill>
                  <a:srgbClr val="ffff99"/>
                </a:solidFill>
                <a:latin typeface="Arial"/>
              </a:rPr>
              <a:t>     ต่างประเทศ</a:t>
            </a:r>
            <a:endParaRPr b="0" lang="en-US" sz="2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716360" y="2060640"/>
          <a:ext cx="4037040" cy="46814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7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ศึกษาวิเคราะห์เพื่อกำหนดแนวทางพัฒนาช่องทางการให้บริการที่เหมาะสม ครอบคลุมกลุ่มเป้าหมาย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วิเคราะห์พฤติกรรมการรับสื่อของกลุ่มเป้าหมายเพื่อกำหนดช่องการการให้บริการที่เหมาะสม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ท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ศสช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ป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วิทยุ โทรทัศน์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95280" y="206064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๖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ร้อยละของจำนวนผู้รับบริการจากการพัฒนาช่องทางการให้บริการของกรมประชาสัมพันธ์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ช่องทาง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วิทยุ โทรทัศน์ เว็บไซต์ เครือข่าย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52" name="Line 33"/>
          <p:cNvSpPr/>
          <p:nvPr/>
        </p:nvSpPr>
        <p:spPr>
          <a:xfrm>
            <a:off x="395280" y="2421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8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6169"/>
            </a:gs>
            <a:gs pos="100000">
              <a:srgbClr val="85d1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 u="sng">
                <a:solidFill>
                  <a:srgbClr val="ffff99"/>
                </a:solidFill>
                <a:uFillTx/>
                <a:latin typeface="Angsana New"/>
              </a:rPr>
              <a:t>ยุทธศาสตร์ที่ ๓</a:t>
            </a:r>
            <a:r>
              <a:rPr b="0" lang="th-TH" sz="2000" spc="-1" strike="noStrike">
                <a:solidFill>
                  <a:srgbClr val="ffff99"/>
                </a:solidFill>
                <a:latin typeface="Angsana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ngsana New"/>
              </a:rPr>
              <a:t>: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ขยายบทบาททางวิชาการประชาสัมพันธ์และสื่อสารมวลชน ให้แก่หน่วยงานภาครัฐ องค์กรภาคเอกชน 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ภาคประชาชน และสื่อมวลชน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เป้าประสงค์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หน่วยงานภาครัฐ องค์กรภาคเอกชน ภาคประชาชน และสื่อมวลชน สามารถดำเนินง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ประชาสัมพันธ์และสื่อสารมวลชนได้สำเร็จตามเป้าหมายที่กำหนดโดยใช้ข้อมูลทางวิชาการด้าน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              การประชาสัมพันธ์ </a:t>
            </a:r>
            <a:br>
              <a:rPr sz="2000"/>
            </a:b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กลยุทธ์ ๓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.</a:t>
            </a:r>
            <a:r>
              <a:rPr b="1" lang="th-TH" sz="2000" spc="-1" strike="noStrike" u="sng">
                <a:solidFill>
                  <a:srgbClr val="ffff99"/>
                </a:solidFill>
                <a:uFillTx/>
                <a:latin typeface="Arial"/>
              </a:rPr>
              <a:t>๑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สนับสนุนทางวิชาการประชาสัมพันธ์และสื่อสารมวลชนให้แก่หน่วยงานภาครัฐ องค์กรภาคเอกชน </a:t>
            </a:r>
            <a:br>
              <a:rPr sz="2000"/>
            </a:b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th-TH" sz="2000" spc="-1" strike="noStrike">
                <a:solidFill>
                  <a:srgbClr val="ffff99"/>
                </a:solidFill>
                <a:latin typeface="Arial"/>
              </a:rPr>
              <a:t>   ภาคประชาชน และสื่อมวลชน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716360" y="2205000"/>
          <a:ext cx="4037040" cy="515160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60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แนวทางดำเนินการ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ศักยภาพของบุคลากร กปส</a:t>
                      </a: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.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กำหนดขอบเขตการให้บริการสนับสนุนทางวิชาการและสื่อสารมวลชน เช่น การจัดทำแผนประชาสัมพันธ์ การจัดรายการวิทยุ โทรทัศน์ การเขียนข่าว การตัดต่อ การใช้เครื่องมืออุปกรณ์ทางการกระจายเสียง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ช่องทางการให้บริการทางวิชาการ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on lin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ประชาสัมพันธ์ส่งเสริมการให้บริการ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หลักสูตรการฝึกอบรมให้ทันสมัย ครอบคลุมความต้องการของกลุ่มเป้าหมาย </a:t>
                      </a: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หลักสูตรการบริหารจัดการสถานีวิทยุกระจายเสียง</a:t>
                      </a: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ccffff"/>
                        </a:buClr>
                        <a:buSzPct val="115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พัฒนาจริยธรรม และมาตรฐานวิชาชีพร่วมกับองค์กรวิชาชีพ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95280" y="2205000"/>
          <a:ext cx="4037040" cy="449748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51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ัวชี้วัดคำรับรองฯ กปส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ปี </a:t>
                      </a:r>
                      <a:r>
                        <a:rPr b="1" lang="th-TH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55</a:t>
                      </a:r>
                      <a:endParaRPr b="1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ำนวนหน่วยงานที่มาขอรับคำปรึกษา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จัด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หลักสูตร ด้านการประชาสัมพันธ์และ 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ื่อสารมวลชน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 u="sng">
                          <a:solidFill>
                            <a:srgbClr val="c00000"/>
                          </a:solidFill>
                          <a:uFillTx/>
                          <a:latin typeface="Arial"/>
                        </a:rPr>
                        <a:t>หน่วยงานที่เกี่ยวข้อง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ต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น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,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ว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ท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ข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๑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๘ 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ปชส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พท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ศสช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สปช</a:t>
                      </a:r>
                      <a:r>
                        <a:rPr b="1" lang="th-TH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57" name="Line 17"/>
          <p:cNvSpPr/>
          <p:nvPr/>
        </p:nvSpPr>
        <p:spPr>
          <a:xfrm>
            <a:off x="395280" y="2637000"/>
            <a:ext cx="403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8783640" y="6381720"/>
            <a:ext cx="36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08:14:31Z</dcterms:created>
  <dc:creator>prd</dc:creator>
  <dc:description/>
  <dc:language>en-US</dc:language>
  <cp:lastModifiedBy>Administrator</cp:lastModifiedBy>
  <dcterms:modified xsi:type="dcterms:W3CDTF">2011-07-20T07:04:28Z</dcterms:modified>
  <cp:revision>89</cp:revision>
  <dc:subject/>
  <dc:title> ยุทธศาสตร์ที่ ๑ : พัฒนานโยบายและแผนการประชาสัมพันธ์แห่งชาติและกำกับดูแลการปฏิบัติงาน  ตามนโยบายและแผนการประชาสัมพันธ์แห่งชาติ  เป้าประสงค์ : รัฐบาลนำข้อเสนอนโยบายและแผนการประชาสัมพันธ์แห่งชาติไปบริหารงานประชาสัมพันธ์</dc:title>
</cp:coreProperties>
</file>